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B6F3-8866-4A89-AEE5-158E8637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DD28-F37A-4EB4-8EB4-178C35E7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ED85-5608-48CF-A083-DDB74BABF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2A32-7CBC-40F0-B0D7-F7370665F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F1E4-3520-4228-897F-B432E408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1E17-6B6E-4135-BED1-2E639C13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15F9-B429-41A3-BD61-20E9ABD9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4A59-58D7-4288-8764-A076A358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9124-DC78-4881-A705-B8CF6D42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F868-7D1B-4F0F-B164-A9069B07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B75A-E126-45AC-9BF7-BAE8C984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47CC-0F08-4F46-A047-1641CB13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22C9-8D22-47E7-8C1C-B2499C7E4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90720"/>
            <a:ext cx="8229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Феномен приро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Шкалирование: прошлое настоящее будущее (А-систем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раньше, позже (В-системы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2895480"/>
            <a:ext cx="388620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Основные свойства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аправл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Линейн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епрерывн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еоканчиваем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Гомог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1371600"/>
            <a:ext cx="6248160" cy="36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нтериорные, задающие местоположение объекта перед другим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бъектом или ориентир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стериорные, определяющие положение объекта относительн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евидимой (тыльной) стороны другого объек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ппозитивные, определяющие местоположение объекта в пр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ивоположении к другому объекту или локализатор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тервальные,   задающие   местоположение   объекта    межд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вумя други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ппроксимативные,   задающие   приблизительное   положенш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бъекта в пространстве относительно расстояния или направления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«где-то в парке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ирективные, определяющие направление движения или де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ия над объектом относительно пространственного ориентира ил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а координа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ициальные, указывающие направление при фиксированно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ьной точ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1905120"/>
            <a:ext cx="6324480" cy="42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рминальные, указывающие направление при фиксирован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нечной точ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имитативные, указывающие направление при фиксиров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ьной и конечной точ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клюзивные, задающие перемещение или действие, происх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ящее внутри некоторого объекта или ЛОК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клюзивные,  задающие перемещение  или  действие,  проис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ходящее по  направлению внутрь некоторого объекта  или  ЛО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рансверсальные,  указывающие  на   пересекаемый  простра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енный ориентир  («перейти через улицу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тинеративные, указывающие на маршрут движения или пер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щения или фиксирующие ЛОК, в котором совершается действи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«идти по улице»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952880" y="1600200"/>
            <a:ext cx="3962520" cy="3124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600200"/>
            <a:ext cx="4190760" cy="3124080"/>
          </a:xfrm>
          <a:prstGeom prst="rect">
            <a:avLst/>
          </a:prstGeom>
          <a:solidFill>
            <a:srgbClr val="cccc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10666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Время в естественном язы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19810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Русский язы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19810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Английский язы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971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екс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2971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Грамма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2971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екс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971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Грамма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019560" y="25146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34320" y="251460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3505320"/>
            <a:ext cx="152424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62920" y="3505320"/>
            <a:ext cx="14475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3505320"/>
            <a:ext cx="152388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505320"/>
            <a:ext cx="14475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3962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3962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447560" y="24382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36232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49528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Заполненность отрезка времени действи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54100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Единичность или повторяем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579132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Завершённость действия или незаверш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624852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Одновремённость или разновремё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-2666880" y="990720"/>
            <a:ext cx="15086520" cy="3276000"/>
            <a:chOff x="-2666880" y="990720"/>
            <a:chExt cx="15086520" cy="3276000"/>
          </a:xfrm>
        </p:grpSpPr>
        <p:sp>
          <p:nvSpPr>
            <p:cNvPr id="70" name=""/>
            <p:cNvSpPr/>
            <p:nvPr/>
          </p:nvSpPr>
          <p:spPr>
            <a:xfrm>
              <a:off x="1676520" y="990720"/>
              <a:ext cx="548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93366"/>
                  </a:solidFill>
                  <a:latin typeface="Times New Roman"/>
                </a:rPr>
                <a:t>Время в лигвиститк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09480" y="3123720"/>
              <a:ext cx="7924680" cy="0"/>
              <a:chOff x="609480" y="3123720"/>
              <a:chExt cx="7924680" cy="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609480" y="3123720"/>
                <a:ext cx="2113200" cy="0"/>
                <a:chOff x="609480" y="3123720"/>
                <a:chExt cx="2113200" cy="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609480" y="3123720"/>
                  <a:ext cx="528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137960" y="3123720"/>
                  <a:ext cx="527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666080" y="3123720"/>
                  <a:ext cx="527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2194200" y="3123720"/>
                  <a:ext cx="528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" name=""/>
              <p:cNvSpPr/>
              <p:nvPr/>
            </p:nvSpPr>
            <p:spPr>
              <a:xfrm>
                <a:off x="27230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511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7928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3077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362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6436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8928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4209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94908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47792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0060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3808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32004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4792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810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909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57600" y="32004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Н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1480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М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483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0552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386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7220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816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1520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8487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818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2666880" y="1752480"/>
              <a:ext cx="7009920" cy="24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343400" y="1676520"/>
              <a:ext cx="8076240" cy="25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71800" y="1371600"/>
              <a:ext cx="3276720" cy="1600200"/>
            </a:xfrm>
            <a:custGeom>
              <a:avLst/>
              <a:gdLst/>
              <a:ahLst/>
              <a:rect l="l" t="t" r="r" b="b"/>
              <a:pathLst>
                <a:path w="2016" h="616">
                  <a:moveTo>
                    <a:pt x="0" y="616"/>
                  </a:moveTo>
                  <a:cubicBezTo>
                    <a:pt x="0" y="496"/>
                    <a:pt x="0" y="376"/>
                    <a:pt x="96" y="280"/>
                  </a:cubicBezTo>
                  <a:cubicBezTo>
                    <a:pt x="192" y="184"/>
                    <a:pt x="448" y="80"/>
                    <a:pt x="576" y="40"/>
                  </a:cubicBezTo>
                  <a:cubicBezTo>
                    <a:pt x="704" y="0"/>
                    <a:pt x="728" y="24"/>
                    <a:pt x="864" y="40"/>
                  </a:cubicBezTo>
                  <a:cubicBezTo>
                    <a:pt x="1000" y="56"/>
                    <a:pt x="1240" y="88"/>
                    <a:pt x="1392" y="136"/>
                  </a:cubicBezTo>
                  <a:cubicBezTo>
                    <a:pt x="1544" y="184"/>
                    <a:pt x="1672" y="248"/>
                    <a:pt x="1776" y="328"/>
                  </a:cubicBezTo>
                  <a:cubicBezTo>
                    <a:pt x="1880" y="408"/>
                    <a:pt x="1976" y="568"/>
                    <a:pt x="2016" y="6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3520" y="198108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ПРОШЛО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57600" y="182880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НАСТОЯЩЕ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213372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БУДУЩЕ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33520" y="4114800"/>
            <a:ext cx="8458200" cy="2516760"/>
            <a:chOff x="533520" y="4114800"/>
            <a:chExt cx="8458200" cy="2516760"/>
          </a:xfrm>
        </p:grpSpPr>
        <p:sp>
          <p:nvSpPr>
            <p:cNvPr id="111" name=""/>
            <p:cNvSpPr/>
            <p:nvPr/>
          </p:nvSpPr>
          <p:spPr>
            <a:xfrm>
              <a:off x="533520" y="4114800"/>
              <a:ext cx="28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П – давно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52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О -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3520" y="495288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П - пред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3520" y="54100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П – после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3520" y="57913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П близко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09880" y="4114800"/>
              <a:ext cx="236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993366"/>
                  </a:solidFill>
                  <a:latin typeface="Times New Roman"/>
                </a:rPr>
                <a:t>ДН - давнонастоящ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09880" y="457200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НО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9880" y="50292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МО момент отсчёт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4100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 - близк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9880" y="58672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Н -  пре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09880" y="63244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Н - посл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24480" y="411480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Б  - близк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24480" y="4572000"/>
              <a:ext cx="266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Б - пре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24480" y="495288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Б - посл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00800" y="5334120"/>
              <a:ext cx="24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О -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00800" y="579132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Б – далёко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10666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Время и челове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1523880"/>
            <a:ext cx="2361960" cy="838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38080" y="3733920"/>
            <a:ext cx="7772400" cy="1066680"/>
            <a:chOff x="838080" y="3733920"/>
            <a:chExt cx="7772400" cy="1066680"/>
          </a:xfrm>
        </p:grpSpPr>
        <p:sp>
          <p:nvSpPr>
            <p:cNvPr id="131" name=""/>
            <p:cNvSpPr/>
            <p:nvPr/>
          </p:nvSpPr>
          <p:spPr>
            <a:xfrm>
              <a:off x="838080" y="4267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19720" y="4191120"/>
              <a:ext cx="75960" cy="7596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29000" y="38098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10080" y="37339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19320" y="42670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прошло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4267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настояще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24480" y="426708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будуще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505320" y="1752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событ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371600" y="5638680"/>
            <a:ext cx="6248520" cy="304560"/>
            <a:chOff x="1371600" y="5638680"/>
            <a:chExt cx="6248520" cy="304560"/>
          </a:xfrm>
        </p:grpSpPr>
        <p:sp>
          <p:nvSpPr>
            <p:cNvPr id="140" name=""/>
            <p:cNvSpPr/>
            <p:nvPr/>
          </p:nvSpPr>
          <p:spPr>
            <a:xfrm>
              <a:off x="1371600" y="57146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05120" y="59432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971440" y="57146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00400" y="59432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43400" y="56386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3400" y="594324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82040" y="56386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39240" y="59432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28600" y="62485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интерваль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19810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точеч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25909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297180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29718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32767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62920" y="25909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27672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34290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34290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266688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3048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3352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3505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9144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огика времени точечных собы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1676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cc0066"/>
                </a:solidFill>
                <a:latin typeface="Times New Roman"/>
              </a:rPr>
              <a:t>0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одновременно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событием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205740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1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раньше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243828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позже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3962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4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t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в момент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</a:rPr>
              <a:t>t*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42900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) 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ит раньше на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5105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cc0066"/>
                </a:solidFill>
                <a:latin typeface="Times New Roman"/>
              </a:rPr>
              <a:t>5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периодом </a:t>
            </a:r>
            <a:r>
              <a:rPr b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295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Неметр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4648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Период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3048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Метр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144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огика времени интервальных собы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1676520"/>
            <a:ext cx="5715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1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предшествует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4419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следует за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2438280"/>
            <a:ext cx="3962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ересекается с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4952880"/>
            <a:ext cx="7315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4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(t*,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в момент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t*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 и продолжается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5943600"/>
            <a:ext cx="5105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5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периодом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2952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Неметр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5410080"/>
            <a:ext cx="159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Период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429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Метр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2743200"/>
            <a:ext cx="5639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Частные случа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: 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0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4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5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81080" y="3124080"/>
            <a:ext cx="4876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7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епосредственно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редшествует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3733920"/>
            <a:ext cx="57150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1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предшествует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4038480"/>
            <a:ext cx="6324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2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пересекается с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ачала 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4495680"/>
            <a:ext cx="6248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3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ересекается с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 концы 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Формальная сист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1676520"/>
            <a:ext cx="8077320" cy="26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ПФ языка будем строить по следующим правила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1.    Любой элемент из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2.    Выражения вида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*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 ,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и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— ППФ,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 есть ПП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3.    Если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— ППФ, то (а&amp; р) —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4.      Выражения     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*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,  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— ППФ, 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*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{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4 ,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5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m5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} t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T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5.      Выражения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m4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,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,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— ППФ  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6.      Других ППФ не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1219320"/>
            <a:ext cx="5334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 ={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n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……….. 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4114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Правила выв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4572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  </a:t>
            </a:r>
            <a:r>
              <a:rPr b="1" lang="en-US" sz="16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 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502920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j  &amp;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  </a:t>
            </a:r>
            <a:r>
              <a:rPr b="1" lang="en-US" sz="16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 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055520"/>
            <a:ext cx="739152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ве группы средств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ексические (наречия и их конструкции, предлоги, имена существительные и именные группы, глаголы</a:t>
            </a:r>
            <a:r>
              <a:rPr b="1" lang="en-US" sz="1400" spc="-1" strike="noStrike" baseline="30000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правленного действия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рамматико-морфологические (падежн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ые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значения предлогов, которые управляют падежной формой существительных, а также местоимений и числительных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76212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Times New Roman"/>
              </a:rPr>
              <a:t>Естественный язы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2948040"/>
            <a:ext cx="388620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во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з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вы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з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округ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ходи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округ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доех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тро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перек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тоя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перек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рог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доль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беж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доль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еса),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 baseline="30000">
                <a:solidFill>
                  <a:srgbClr val="cc0066"/>
                </a:solidFill>
                <a:latin typeface="Times New Roman"/>
                <a:ea typeface="Times New Roman"/>
              </a:rPr>
              <a:t>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прятаться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ерево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ес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камейку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6400" y="2857680"/>
            <a:ext cx="327672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жд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рас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жд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устам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леж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ол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пролет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ород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лете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ерев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е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находиться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е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сягаемост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утр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жи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утр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репост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м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про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м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агазин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тоя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мина).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2635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66"/>
                </a:solidFill>
                <a:latin typeface="Times New Roman"/>
              </a:rPr>
              <a:t>Предлог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1066680"/>
            <a:ext cx="5943600" cy="37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териорные, определяющие положение объекта во внешнем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странстве относительно некоторого начала координат, простра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енного  ориентира,   или  локализатора   (например,   относительн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ОКа с именем Париж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териорные, определяющие положение объекта во внутре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ем  пространстве относительно начала координат или некоторо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странственного ориенти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испозитивные,   задающие   местоположение   объекта   в   пр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ранстве в самом общем виде («где-то на севере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упериорные, указывающие местоположение объекта относ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ьно верхней поверхности некоторого локализатора, или ориент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фериорные,  характеризующие положение объекта  относ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ьно нижней поверхности локализатора или ориенти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инантные, указывающие местоположение объекта над н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торым   локализатором   или   ориентиром,   когда   нет   в   наличи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с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6:28:45Z</dcterms:created>
  <dc:creator>.</dc:creator>
  <dc:description/>
  <dc:language>en-US</dc:language>
  <cp:lastModifiedBy>Peter Sosnin</cp:lastModifiedBy>
  <dcterms:modified xsi:type="dcterms:W3CDTF">2005-11-28T06:52:25Z</dcterms:modified>
  <cp:revision>9</cp:revision>
  <dc:subject/>
  <dc:title>ЛОГИКА ВРЕМЕНИ</dc:title>
</cp:coreProperties>
</file>